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F36-D403-4326-ADC6-79FC2541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E95-12E6-467D-9788-BFC59471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DB3-90EE-4545-90A0-46E460E9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349-D2A3-49C3-A3B6-3D99EB00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E25-686B-4573-9AF3-063FB180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0BD-63D9-4614-AA36-48B46BF1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AA7-3F01-4EAF-B5F9-345BB545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590-1F54-4D04-85EF-F209C3F9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629-9155-4633-8AFC-7B36E30A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B0B-1272-43DD-88D9-4FB244BA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AF9-F593-4F72-BE0A-D5CE58FE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F24-4CAC-496A-8B2E-7AEE386F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A66C-F582-423C-8B35-AA28CA875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are some pictures of German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by penny Bea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003640" y="2565360"/>
            <a:ext cx="4140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353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350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211640" cy="3357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140360" y="3500280"/>
            <a:ext cx="5003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0:02:34Z</dcterms:created>
  <dc:creator>Admin</dc:creator>
  <dc:description/>
  <dc:language>en-US</dc:language>
  <cp:lastModifiedBy>Admin</cp:lastModifiedBy>
  <dcterms:modified xsi:type="dcterms:W3CDTF">2009-06-01T00:29:56Z</dcterms:modified>
  <cp:revision>3</cp:revision>
  <dc:subject/>
  <dc:title>Here are some pictures of Germany.</dc:title>
</cp:coreProperties>
</file>